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315200" cy="914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6116-779E-47C7-BCD5-EDA7C525B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360" y="-51120"/>
            <a:ext cx="6216480" cy="41580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ctr">
            <a:noAutofit/>
          </a:bodyPr>
          <a:p>
            <a:pPr indent="0" algn="ctr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360" y="263520"/>
            <a:ext cx="6216480" cy="261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 fontScale="82000"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360" y="550440"/>
            <a:ext cx="6216480" cy="261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 fontScale="82000"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E0D7-3A2C-4DBE-BAD7-2AE1098FD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360" y="-51120"/>
            <a:ext cx="6216480" cy="41580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ctr">
            <a:noAutofit/>
          </a:bodyPr>
          <a:p>
            <a:pPr indent="0" algn="ctr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360" y="26352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 fontScale="82000"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734640" y="26352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 fontScale="82000"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360" y="55044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 fontScale="82000"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734640" y="55044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 fontScale="82000"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6A2A-F658-4256-BB9B-848013232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360" y="-51120"/>
            <a:ext cx="6216480" cy="41580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ctr">
            <a:noAutofit/>
          </a:bodyPr>
          <a:p>
            <a:pPr indent="0" algn="ctr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360" y="263520"/>
            <a:ext cx="2001600" cy="261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 fontScale="82000"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51400" y="263520"/>
            <a:ext cx="2001600" cy="261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 fontScale="82000"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53440" y="263520"/>
            <a:ext cx="2001600" cy="261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 fontScale="82000"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360" y="550440"/>
            <a:ext cx="2001600" cy="261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 fontScale="82000"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51400" y="550440"/>
            <a:ext cx="2001600" cy="261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 fontScale="82000"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53440" y="550440"/>
            <a:ext cx="2001600" cy="261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 fontScale="82000"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D5D4-997E-488E-A6FA-3CBDED8AD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360" y="-51120"/>
            <a:ext cx="6216480" cy="41580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ctr">
            <a:noAutofit/>
          </a:bodyPr>
          <a:p>
            <a:pPr indent="0" algn="ctr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360" y="263520"/>
            <a:ext cx="62164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C95B-7B80-4E45-AC7D-11AF282C8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360" y="-51120"/>
            <a:ext cx="6216480" cy="41580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ctr">
            <a:noAutofit/>
          </a:bodyPr>
          <a:p>
            <a:pPr indent="0" algn="ctr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360" y="263520"/>
            <a:ext cx="6216480" cy="54936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3520-87F3-4550-8C4B-600D70D1D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360" y="-51120"/>
            <a:ext cx="6216480" cy="41580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ctr">
            <a:noAutofit/>
          </a:bodyPr>
          <a:p>
            <a:pPr indent="0" algn="ctr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360" y="263520"/>
            <a:ext cx="3033360" cy="54936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734640" y="263520"/>
            <a:ext cx="3033360" cy="54936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45A9-0742-4C12-B4E4-E4DEB58A5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360" y="-51120"/>
            <a:ext cx="6216480" cy="41580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ctr">
            <a:noAutofit/>
          </a:bodyPr>
          <a:p>
            <a:pPr indent="0" algn="ctr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07E4-F79B-4797-B38F-1DE0DF9FB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360" y="80640"/>
            <a:ext cx="6216480" cy="7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2F4D-A306-4C51-9ADC-588DBA41B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360" y="-51120"/>
            <a:ext cx="6216480" cy="41580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ctr">
            <a:noAutofit/>
          </a:bodyPr>
          <a:p>
            <a:pPr indent="0" algn="ctr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360" y="26352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 fontScale="82000"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734640" y="263520"/>
            <a:ext cx="3033360" cy="54936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360" y="55044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 fontScale="82000"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07A7-8E3A-410C-9E6B-EFCEAF81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360" y="-51120"/>
            <a:ext cx="6216480" cy="41580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ctr">
            <a:noAutofit/>
          </a:bodyPr>
          <a:p>
            <a:pPr indent="0" algn="ctr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360" y="263520"/>
            <a:ext cx="3033360" cy="54936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734640" y="26352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 fontScale="82000"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734640" y="55044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 fontScale="82000"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423E-64C3-4575-A133-56C7CC74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360" y="-51120"/>
            <a:ext cx="6216480" cy="41580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ctr">
            <a:noAutofit/>
          </a:bodyPr>
          <a:p>
            <a:pPr indent="0" algn="ctr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360" y="26352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 fontScale="82000"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734640" y="26352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 fontScale="82000"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360" y="550440"/>
            <a:ext cx="6216480" cy="261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 fontScale="82000"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5605-F4A2-457C-BAC0-11029B159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360" y="80640"/>
            <a:ext cx="6216480" cy="15228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ctr">
            <a:noAutofit/>
          </a:bodyPr>
          <a:p>
            <a:pPr indent="0" algn="ctr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360" y="263520"/>
            <a:ext cx="6216480" cy="54936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 fontScale="23000"/>
          </a:bodyPr>
          <a:p>
            <a:pPr marL="42480" indent="-4248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60" indent="-3528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41480" indent="-2808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3" marL="198360" indent="-2844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4" marL="254880" indent="-2772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5" marL="254880" indent="-2772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6" marL="254880" indent="-2772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9000" y="833400"/>
            <a:ext cx="1523880" cy="6048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Autofit/>
          </a:bodyPr>
          <a:lstStyle>
            <a:lvl1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98760" y="833400"/>
            <a:ext cx="2317680" cy="6048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Autofit/>
          </a:bodyPr>
          <a:lstStyle>
            <a:lvl1pPr indent="0" algn="ctr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241600" y="833400"/>
            <a:ext cx="1523880" cy="6048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Autofit/>
          </a:bodyPr>
          <a:lstStyle>
            <a:lvl1pPr indent="0" algn="r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fld id="{9B82C7F9-4C0D-4F9D-9EC4-D631C3702280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 flipV="1">
            <a:off x="-360" y="43560"/>
            <a:ext cx="7149240" cy="794520"/>
          </a:xfrm>
          <a:prstGeom prst="bentConnector3">
            <a:avLst>
              <a:gd name="adj1" fmla="val 49989"/>
            </a:avLst>
          </a:prstGeom>
          <a:ln w="9360">
            <a:solidFill>
              <a:srgbClr val="58abab"/>
            </a:solidFill>
            <a:miter/>
          </a:ln>
        </p:spPr>
      </p:cxnSp>
      <p:cxnSp>
        <p:nvCxnSpPr>
          <p:cNvPr id="42" name=""/>
          <p:cNvCxnSpPr/>
          <p:nvPr/>
        </p:nvCxnSpPr>
        <p:spPr>
          <a:xfrm flipV="1">
            <a:off x="533520" y="75600"/>
            <a:ext cx="2653200" cy="687960"/>
          </a:xfrm>
          <a:prstGeom prst="bentConnector3">
            <a:avLst>
              <a:gd name="adj1" fmla="val 49966"/>
            </a:avLst>
          </a:prstGeom>
          <a:ln w="9360">
            <a:solidFill>
              <a:srgbClr val="58abab"/>
            </a:solidFill>
            <a:miter/>
          </a:ln>
        </p:spPr>
      </p:cxnSp>
      <p:cxnSp>
        <p:nvCxnSpPr>
          <p:cNvPr id="43" name=""/>
          <p:cNvCxnSpPr/>
          <p:nvPr/>
        </p:nvCxnSpPr>
        <p:spPr>
          <a:xfrm>
            <a:off x="380520" y="456840"/>
            <a:ext cx="6172920" cy="229320"/>
          </a:xfrm>
          <a:prstGeom prst="bentConnector3">
            <a:avLst>
              <a:gd name="adj1" fmla="val 50000"/>
            </a:avLst>
          </a:prstGeom>
          <a:ln w="9360">
            <a:solidFill>
              <a:srgbClr val="58abab"/>
            </a:solidFill>
            <a:miter/>
          </a:ln>
        </p:spPr>
      </p:cxnSp>
      <p:cxnSp>
        <p:nvCxnSpPr>
          <p:cNvPr id="44" name=""/>
          <p:cNvCxnSpPr/>
          <p:nvPr/>
        </p:nvCxnSpPr>
        <p:spPr>
          <a:xfrm>
            <a:off x="4038480" y="228240"/>
            <a:ext cx="3277440" cy="229320"/>
          </a:xfrm>
          <a:prstGeom prst="bentConnector3">
            <a:avLst>
              <a:gd name="adj1" fmla="val 49994"/>
            </a:avLst>
          </a:prstGeom>
          <a:ln w="9360">
            <a:solidFill>
              <a:srgbClr val="58aba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1T12:47:00Z</dcterms:created>
  <dc:creator>Claudia</dc:creator>
  <dc:description/>
  <dc:language>en-US</dc:language>
  <cp:lastModifiedBy>Claudia</cp:lastModifiedBy>
  <dcterms:modified xsi:type="dcterms:W3CDTF">1998-12-11T13:28:36Z</dcterms:modified>
  <cp:revision>1</cp:revision>
  <dc:subject/>
  <dc:title>Kein Folientitel</dc:title>
</cp:coreProperties>
</file>