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15200" cy="914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1A6-6F8E-4FC4-AC29-1648F205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64960"/>
            <a:ext cx="6216480" cy="2610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551160"/>
            <a:ext cx="6216480" cy="2610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6387-1FDC-4E82-80DD-D27E9E89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264960"/>
            <a:ext cx="3033360" cy="2610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4640" y="264960"/>
            <a:ext cx="3033360" cy="2610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551160"/>
            <a:ext cx="3033360" cy="2610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4640" y="551160"/>
            <a:ext cx="3033360" cy="2610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0D4-DAF5-49EF-8432-821D7A43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264960"/>
            <a:ext cx="2001600" cy="2610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1400" y="264960"/>
            <a:ext cx="2001600" cy="2610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53440" y="264960"/>
            <a:ext cx="2001600" cy="2610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551160"/>
            <a:ext cx="2001600" cy="2610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1400" y="551160"/>
            <a:ext cx="2001600" cy="2610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53440" y="551160"/>
            <a:ext cx="2001600" cy="2610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AD0-8891-4219-ACFB-A9A41B5D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264960"/>
            <a:ext cx="621648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4331-4A46-4616-B413-67B9745F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64960"/>
            <a:ext cx="6216480" cy="54792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5A3-C788-4D25-B9B8-F6F4CBCD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264960"/>
            <a:ext cx="3033360" cy="54792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4640" y="264960"/>
            <a:ext cx="3033360" cy="54792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3AF-1526-4529-8A97-AEAE7B9C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83D-280D-4407-AA2C-A194D881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80640"/>
            <a:ext cx="6216480" cy="7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F96-772E-44EC-8680-091E44E0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264960"/>
            <a:ext cx="3033360" cy="2610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4640" y="264960"/>
            <a:ext cx="3033360" cy="54792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551160"/>
            <a:ext cx="3033360" cy="2610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443-2B03-46FA-874D-BDD00934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264960"/>
            <a:ext cx="3033360" cy="54792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4640" y="264960"/>
            <a:ext cx="3033360" cy="2610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4640" y="551160"/>
            <a:ext cx="3033360" cy="2610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C9E9-7360-4D2D-9CAE-DE0DD8AC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-51120"/>
            <a:ext cx="6216480" cy="4158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264960"/>
            <a:ext cx="3033360" cy="2610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4640" y="264960"/>
            <a:ext cx="3033360" cy="2610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551160"/>
            <a:ext cx="6216480" cy="26100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0E1-054A-4FB5-A881-BD399945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64960"/>
            <a:ext cx="6216480" cy="54792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rmAutofit fontScale="22000"/>
          </a:bodyPr>
          <a:p>
            <a:pPr marL="41040" indent="-41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34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800" indent="-27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1520" indent="-273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46240" indent="-270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46240" indent="-270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46240" indent="-270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000" y="833400"/>
            <a:ext cx="1523880" cy="6048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Autofit/>
          </a:bodyPr>
          <a:lstStyle>
            <a:lvl1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33400"/>
            <a:ext cx="2317680" cy="6048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Autofit/>
          </a:bodyPr>
          <a:lstStyle>
            <a:lvl1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33400"/>
            <a:ext cx="1523880" cy="60480"/>
          </a:xfrm>
          <a:prstGeom prst="rect">
            <a:avLst/>
          </a:prstGeom>
          <a:noFill/>
          <a:ln w="0">
            <a:noFill/>
          </a:ln>
        </p:spPr>
        <p:txBody>
          <a:bodyPr lIns="49680" rIns="49680" tIns="24840" bIns="24840" anchor="t">
            <a:noAutofit/>
          </a:bodyPr>
          <a:lstStyle>
            <a:lvl1pPr indent="0" algn="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fld id="{5F1BCE87-EA2B-47C6-B9FC-B98AB56E2E7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 flipV="1">
            <a:off x="166680" y="43920"/>
            <a:ext cx="6982560" cy="828000"/>
          </a:xfrm>
          <a:prstGeom prst="bentConnector3">
            <a:avLst>
              <a:gd name="adj1" fmla="val 49997"/>
            </a:avLst>
          </a:prstGeom>
          <a:ln w="12600">
            <a:solidFill>
              <a:srgbClr val="58abab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193680" y="195120"/>
            <a:ext cx="647640" cy="648000"/>
          </a:xfrm>
          <a:prstGeom prst="bevel">
            <a:avLst>
              <a:gd name="adj" fmla="val 5023"/>
            </a:avLst>
          </a:prstGeom>
          <a:gradFill rotWithShape="0">
            <a:gsLst>
              <a:gs pos="0">
                <a:srgbClr val="58abab"/>
              </a:gs>
              <a:gs pos="50000">
                <a:srgbClr val="31b8fb"/>
              </a:gs>
              <a:gs pos="100000">
                <a:srgbClr val="58aba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abab"/>
                </a:solidFill>
                <a:latin typeface="Tahoma"/>
              </a:rPr>
              <a:t>Link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46280" y="42840"/>
            <a:ext cx="647640" cy="647640"/>
          </a:xfrm>
          <a:prstGeom prst="bevel">
            <a:avLst>
              <a:gd name="adj" fmla="val 5023"/>
            </a:avLst>
          </a:prstGeom>
          <a:gradFill rotWithShape="0">
            <a:gsLst>
              <a:gs pos="0">
                <a:srgbClr val="31b8fb"/>
              </a:gs>
              <a:gs pos="50000">
                <a:srgbClr val="58abab"/>
              </a:gs>
              <a:gs pos="100000">
                <a:srgbClr val="31b8f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abab"/>
                </a:solidFill>
                <a:latin typeface="Tahoma"/>
              </a:rPr>
              <a:t>Link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8520" y="195120"/>
            <a:ext cx="647640" cy="648000"/>
          </a:xfrm>
          <a:prstGeom prst="bevel">
            <a:avLst>
              <a:gd name="adj" fmla="val 5023"/>
            </a:avLst>
          </a:prstGeom>
          <a:gradFill rotWithShape="0">
            <a:gsLst>
              <a:gs pos="0">
                <a:srgbClr val="58abab"/>
              </a:gs>
              <a:gs pos="50000">
                <a:srgbClr val="31b8fb"/>
              </a:gs>
              <a:gs pos="100000">
                <a:srgbClr val="58aba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abab"/>
                </a:solidFill>
                <a:latin typeface="Tahoma"/>
              </a:rPr>
              <a:t>Link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51120" y="42840"/>
            <a:ext cx="647640" cy="647640"/>
          </a:xfrm>
          <a:prstGeom prst="bevel">
            <a:avLst>
              <a:gd name="adj" fmla="val 5023"/>
            </a:avLst>
          </a:prstGeom>
          <a:gradFill rotWithShape="0">
            <a:gsLst>
              <a:gs pos="0">
                <a:srgbClr val="31b8fb"/>
              </a:gs>
              <a:gs pos="50000">
                <a:srgbClr val="58abab"/>
              </a:gs>
              <a:gs pos="100000">
                <a:srgbClr val="31b8f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abab"/>
                </a:solidFill>
                <a:latin typeface="Tahoma"/>
              </a:rPr>
              <a:t>Link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03360" y="195120"/>
            <a:ext cx="647640" cy="648000"/>
          </a:xfrm>
          <a:prstGeom prst="bevel">
            <a:avLst>
              <a:gd name="adj" fmla="val 5023"/>
            </a:avLst>
          </a:prstGeom>
          <a:gradFill rotWithShape="0">
            <a:gsLst>
              <a:gs pos="0">
                <a:srgbClr val="58abab"/>
              </a:gs>
              <a:gs pos="50000">
                <a:srgbClr val="31b8fb"/>
              </a:gs>
              <a:gs pos="100000">
                <a:srgbClr val="58aba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abab"/>
                </a:solidFill>
                <a:latin typeface="Tahoma"/>
              </a:rPr>
              <a:t>Link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54160" y="42840"/>
            <a:ext cx="648000" cy="647640"/>
          </a:xfrm>
          <a:prstGeom prst="bevel">
            <a:avLst>
              <a:gd name="adj" fmla="val 5023"/>
            </a:avLst>
          </a:prstGeom>
          <a:gradFill rotWithShape="0">
            <a:gsLst>
              <a:gs pos="0">
                <a:srgbClr val="31b8fb"/>
              </a:gs>
              <a:gs pos="50000">
                <a:srgbClr val="58abab"/>
              </a:gs>
              <a:gs pos="100000">
                <a:srgbClr val="31b8f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abab"/>
                </a:solidFill>
                <a:latin typeface="Tahoma"/>
              </a:rPr>
              <a:t>Link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70280" y="136440"/>
            <a:ext cx="3311640" cy="644760"/>
          </a:xfrm>
          <a:prstGeom prst="flowChartMultidocument">
            <a:avLst/>
          </a:prstGeom>
          <a:gradFill rotWithShape="0">
            <a:gsLst>
              <a:gs pos="0">
                <a:srgbClr val="58abab"/>
              </a:gs>
              <a:gs pos="50000">
                <a:srgbClr val="31b8fb"/>
              </a:gs>
              <a:gs pos="100000">
                <a:srgbClr val="58aba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8abab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58abab"/>
                </a:solidFill>
                <a:latin typeface="Tahoma"/>
              </a:rPr>
              <a:t>WILLKOMM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1T08:21:18Z</dcterms:created>
  <dc:creator>Claudia</dc:creator>
  <dc:description/>
  <dc:language>en-US</dc:language>
  <cp:lastModifiedBy>Claudia</cp:lastModifiedBy>
  <dcterms:modified xsi:type="dcterms:W3CDTF">1998-12-11T19:20:19Z</dcterms:modified>
  <cp:revision>5</cp:revision>
  <dc:subject/>
  <dc:title>Kein Folientitel</dc:title>
</cp:coreProperties>
</file>